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7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media/image54.jpeg" ContentType="image/jpeg"/>
  <Override PartName="/ppt/media/image58.jpeg" ContentType="image/jpeg"/>
  <Override PartName="/ppt/media/image51.png" ContentType="image/png"/>
  <Override PartName="/ppt/media/image4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72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37.jpeg" ContentType="image/jpeg"/>
  <Override PartName="/ppt/media/image67.png" ContentType="image/png"/>
  <Override PartName="/ppt/media/image60.jpeg" ContentType="image/jpeg"/>
  <Override PartName="/ppt/media/image24.jpeg" ContentType="image/jpeg"/>
  <Override PartName="/ppt/media/image1.png" ContentType="image/png"/>
  <Override PartName="/ppt/media/image15.jpeg" ContentType="image/jpeg"/>
  <Override PartName="/ppt/media/image20.jpeg" ContentType="image/jpeg"/>
  <Override PartName="/ppt/media/image21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39.jpeg" ContentType="image/jpeg"/>
  <Override PartName="/ppt/media/image22.jpeg" ContentType="image/jpeg"/>
  <Override PartName="/ppt/media/image19.jpeg" ContentType="image/jpeg"/>
  <Override PartName="/ppt/media/image63.jpeg" ContentType="image/jpeg"/>
  <Override PartName="/ppt/media/image71.png" ContentType="image/png"/>
  <Override PartName="/ppt/media/image6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4.jpeg" ContentType="image/jpeg"/>
  <Override PartName="/ppt/media/image41.jpeg" ContentType="image/jpeg"/>
  <Override PartName="/ppt/media/image8.png" ContentType="image/png"/>
  <Override PartName="/ppt/media/image23.jpeg" ContentType="image/jpeg"/>
  <Override PartName="/ppt/media/image11.jpeg" ContentType="image/jpeg"/>
  <Override PartName="/ppt/media/image28.jpeg" ContentType="image/jpe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4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7926-6736-465C-8BAB-DD59316CE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2710-A3B5-42E9-ACE5-447813091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2B2E-7C4D-4D88-9166-D837EB8FA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E4B2-46FD-47EF-8D22-0112A566D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6A07-0DFB-4EED-BCEC-8821F94E3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EE28-FD63-48C0-AB0C-697ACB0CE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C06E-9A31-416D-94D5-76402505A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6895-1D6D-4EDC-AA90-4BC9F0A24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2AAF-B240-49A9-B1BE-7F1395CC9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8797-B80A-4144-9F8C-62D1FBB25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50E8-F635-43A3-A5BC-8936ACA49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1411-194D-4308-9CBE-CA9CD6F20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55C9-5774-4E7E-A4D4-2D06F039F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BD87-26E8-454E-9675-3FB5607CD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6B72-5530-4B61-8303-492B7F193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C4D-CB4A-4893-AE64-E7BE9EAB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D9A0-8684-420C-A47E-A7F59186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9E06-40BF-49BC-9378-0B4852F6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1D8C-9E69-4BC6-9678-D44DA1F5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76F-031E-4C88-8E9E-D4AFA846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E4A3-D78E-4B22-A7C7-C8D8775A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CB8-D83E-4FAE-8508-52BB5EAC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734-EA41-49D5-A2AE-1CA7271E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B17A-566A-424E-8C41-42EA1F8E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1C10-64B9-4951-B819-D6DF8DF5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E467-2F26-4092-BB47-E13FEE91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433D-507A-49CE-B427-37AB35ED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dfa"/>
            </a:gs>
            <a:gs pos="100000">
              <a:srgbClr val="81d6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7" descr="2771h1009"/>
          <p:cNvPicPr/>
          <p:nvPr/>
        </p:nvPicPr>
        <p:blipFill>
          <a:blip r:embed="rId2"/>
          <a:stretch/>
        </p:blipFill>
        <p:spPr>
          <a:xfrm>
            <a:off x="7315200" y="4800600"/>
            <a:ext cx="1828800" cy="160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E072-D01E-4254-AEF8-BB67F85D38FD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dfa"/>
            </a:gs>
            <a:gs pos="100000">
              <a:srgbClr val="81d6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2771h1009"/>
          <p:cNvPicPr/>
          <p:nvPr/>
        </p:nvPicPr>
        <p:blipFill>
          <a:blip r:embed="rId2"/>
          <a:stretch/>
        </p:blipFill>
        <p:spPr>
          <a:xfrm>
            <a:off x="3200400" y="1219320"/>
            <a:ext cx="5943600" cy="5225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2.mcdaniel.edu/Biology/PGclass/webpagepictures2/5kingdoms.htm" TargetMode="External"/><Relationship Id="rId2" Type="http://schemas.openxmlformats.org/officeDocument/2006/relationships/hyperlink" Target="http://www.kidport.com/RefLib/Science/Animals/Animals.htm" TargetMode="External"/><Relationship Id="rId3" Type="http://schemas.openxmlformats.org/officeDocument/2006/relationships/hyperlink" Target="http://www.zephyrus.co.uk/plantkingdom1.html" TargetMode="External"/><Relationship Id="rId4" Type="http://schemas.openxmlformats.org/officeDocument/2006/relationships/hyperlink" Target="http://www.wisc-online.com/objects/index_tj.asp?objid=BIO304" TargetMode="External"/><Relationship Id="rId5" Type="http://schemas.openxmlformats.org/officeDocument/2006/relationships/hyperlink" Target="http://www.promotega.org/msc00003/proking.htm" TargetMode="External"/><Relationship Id="rId6" Type="http://schemas.openxmlformats.org/officeDocument/2006/relationships/hyperlink" Target="http://fig.cox.miami.edu/Faculty/Dana/monera.html" TargetMode="External"/><Relationship Id="rId7" Type="http://schemas.openxmlformats.org/officeDocument/2006/relationships/hyperlink" Target="http://7art-screensavers.com/screenshots/wild-animals/koalas.jpg" TargetMode="External"/><Relationship Id="rId8" Type="http://schemas.openxmlformats.org/officeDocument/2006/relationships/image" Target="../media/image3.jpeg"/><Relationship Id="rId9" Type="http://schemas.openxmlformats.org/officeDocument/2006/relationships/hyperlink" Target="http://images.google.com/imgres?imgurl=http://toptropicals.com/pics/garden/c17/9858.jpg&amp;imgrefurl=http://toptropicals.com/&amp;h=416&amp;w=500&amp;sz=54&amp;tbnid=0FFjsIwi0rvueM:&amp;tbnh=105&amp;tbnw=127&amp;hl=en&amp;start=8&amp;prev=/images%3Fq%3Dplants%2Bpicture%26svnum%3D10%26hl%3Den%26lr%3D%26sa%3DN" TargetMode="External"/><Relationship Id="rId10" Type="http://schemas.openxmlformats.org/officeDocument/2006/relationships/image" Target="../media/image4.jpeg"/><Relationship Id="rId11" Type="http://schemas.openxmlformats.org/officeDocument/2006/relationships/hyperlink" Target="http://images.google.com/imgres?imgurl=http://www2u.biglobe.ne.jp/~gen-yu/bud.jpg&amp;imgrefurl=http://www2u.biglobe.ne.jp/~gen-yu/bud.html&amp;h=240&amp;w=320&amp;sz=23&amp;tbnid=Ny_JZMEj6kvWIM:&amp;tbnh=84&amp;tbnw=113&amp;hl=en&amp;start=5&amp;prev=/images%3Fq%3DAlgea%26svnum%3D10%26hl%3Den%26lr%3D%26sa%3DG" TargetMode="External"/><Relationship Id="rId12" Type="http://schemas.openxmlformats.org/officeDocument/2006/relationships/image" Target="../media/image5.jpeg"/><Relationship Id="rId13" Type="http://schemas.openxmlformats.org/officeDocument/2006/relationships/hyperlink" Target="http://images.google.com/imgres?imgurl=http://images.encarta.msn.com/xrefmedia/sharemed/targets/images/pho/t045/T045376A.jtn&amp;imgrefurl=http://encarta.msn.com/mediacenter_0.3.13/Viruses_Monerans_Protists.html&amp;h=64&amp;w=64&amp;sz=2&amp;tbnid=V3Si4vlclo2ZRM:&amp;tbnh=64&amp;tbnw=64&amp;hl=en&amp;start=43&amp;prev=/images%3Fq%3Dmonerans%26start%3D40%26svnum%3D10%26hl%3Den%26lr%3D%26sa%3DN" TargetMode="External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hyperlink" Target="http://images.google.com/imgres?imgurl=http://www.biologydaily.com/biology/upload/thumb/4/44/240px-Closeuppineneedlessm.jpg&amp;imgrefurl=http://www.biologydaily.com/biology/Leaf&amp;h=310&amp;w=240&amp;sz=28&amp;tbnid=fNsxlxAOgAXeRM:&amp;tbnh=112&amp;tbnw=86&amp;hl=en&amp;start=16&amp;prev=/images%3Fq%3Dneedle%2Bleaves%26svnum%3D10%26hl%3Den%26lr%3D%26sa%3DN" TargetMode="External"/><Relationship Id="rId3" Type="http://schemas.openxmlformats.org/officeDocument/2006/relationships/image" Target="../media/image49.jpeg"/><Relationship Id="rId4" Type="http://schemas.openxmlformats.org/officeDocument/2006/relationships/hyperlink" Target="http://images.google.com/imgres?imgurl=http://www.oeb.harvard.edu/bs55/Web/Main_Page/ID_Tutorial_Pics/broad_leaves.jpg&amp;imgrefurl=http://www.oeb.harvard.edu/bs55/Web/Main_Page/ID_Tutorial.htm&amp;h=200&amp;w=162&amp;sz=18&amp;tbnid=A7n40_-KU5lUeM:&amp;tbnh=99&amp;tbnw=80&amp;hl=en&amp;start=2&amp;prev=/images%3Fq%3Dbroad%2Bleaves%26svnum%3D10%26hl%3Den%26lr%3D%26sa%3DG" TargetMode="External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s.umb.edu/~whaber/Monte/Plant/Sola/Ces-ira.html" TargetMode="External"/><Relationship Id="rId2" Type="http://schemas.openxmlformats.org/officeDocument/2006/relationships/image" Target="../media/image54.jpeg"/><Relationship Id="rId3" Type="http://schemas.openxmlformats.org/officeDocument/2006/relationships/hyperlink" Target="http://www.oznet.ksu.edu/dp_entm/extension/InsectInfo/escp.htm" TargetMode="External"/><Relationship Id="rId4" Type="http://schemas.openxmlformats.org/officeDocument/2006/relationships/image" Target="../media/image55.jpeg"/><Relationship Id="rId5" Type="http://schemas.openxmlformats.org/officeDocument/2006/relationships/hyperlink" Target="http://www.cybertruffle.org.uk/vinales/pics/hojas_syzygium_jambos.htm" TargetMode="External"/><Relationship Id="rId6" Type="http://schemas.openxmlformats.org/officeDocument/2006/relationships/image" Target="../media/image56.jpeg"/><Relationship Id="rId7" Type="http://schemas.openxmlformats.org/officeDocument/2006/relationships/hyperlink" Target="http://www.bridgewater.edu/~lhill/leafshapes.htm" TargetMode="External"/><Relationship Id="rId8" Type="http://schemas.openxmlformats.org/officeDocument/2006/relationships/image" Target="../media/image57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lantsindex.com/aster/viola/help/leaves_help_e.htm" TargetMode="External"/><Relationship Id="rId2" Type="http://schemas.openxmlformats.org/officeDocument/2006/relationships/image" Target="../media/image58.jpeg"/><Relationship Id="rId3" Type="http://schemas.openxmlformats.org/officeDocument/2006/relationships/hyperlink" Target="http://www.pssc.ttu.edu/pss1411cd/PLANTID/glossary/glossary.htm" TargetMode="External"/><Relationship Id="rId4" Type="http://schemas.openxmlformats.org/officeDocument/2006/relationships/image" Target="../media/image59.jpeg"/><Relationship Id="rId5" Type="http://schemas.openxmlformats.org/officeDocument/2006/relationships/hyperlink" Target="http://hla-ws02f.hortla.okstate.edu/plantid/guides/leaves.html" TargetMode="External"/><Relationship Id="rId6" Type="http://schemas.openxmlformats.org/officeDocument/2006/relationships/image" Target="../media/image60.jpeg"/><Relationship Id="rId7" Type="http://schemas.openxmlformats.org/officeDocument/2006/relationships/hyperlink" Target="http://oregonstate.edu/dept/nursery-weeds/weedspeciespage/lambsquarter/common_lambsquarter_foliage.htm" TargetMode="External"/><Relationship Id="rId8" Type="http://schemas.openxmlformats.org/officeDocument/2006/relationships/image" Target="../media/image61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b.uconn.edu/Courses/EEB271/Monocots%20I.htm" TargetMode="External"/><Relationship Id="rId2" Type="http://schemas.openxmlformats.org/officeDocument/2006/relationships/image" Target="../media/image62.jpeg"/><Relationship Id="rId3" Type="http://schemas.openxmlformats.org/officeDocument/2006/relationships/hyperlink" Target="http://absastro.tripod.com/skey/subkey2_3.htm" TargetMode="External"/><Relationship Id="rId4" Type="http://schemas.openxmlformats.org/officeDocument/2006/relationships/image" Target="../media/image63.jpeg"/><Relationship Id="rId5" Type="http://schemas.openxmlformats.org/officeDocument/2006/relationships/hyperlink" Target="http://www.sbs.utexas.edu/mbierner/bio406d/images/pics/cap/lonicera_sempervirens.htm" TargetMode="External"/><Relationship Id="rId6" Type="http://schemas.openxmlformats.org/officeDocument/2006/relationships/image" Target="../media/image64.jpeg"/><Relationship Id="rId7" Type="http://schemas.openxmlformats.org/officeDocument/2006/relationships/hyperlink" Target="http://www.missouriplants.com/Blueopp/Phlox_bifida_page.html" TargetMode="External"/><Relationship Id="rId8" Type="http://schemas.openxmlformats.org/officeDocument/2006/relationships/image" Target="../media/image65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8.png"/><Relationship Id="rId6" Type="http://schemas.openxmlformats.org/officeDocument/2006/relationships/hyperlink" Target="http://www.sciencebob.com/graphics/lungs.jpg" TargetMode="External"/><Relationship Id="rId7" Type="http://schemas.openxmlformats.org/officeDocument/2006/relationships/image" Target="../media/image69.jpeg"/><Relationship Id="rId8" Type="http://schemas.openxmlformats.org/officeDocument/2006/relationships/image" Target="../media/image70.jpeg"/><Relationship Id="rId9" Type="http://schemas.openxmlformats.org/officeDocument/2006/relationships/image" Target="../media/image71.png"/><Relationship Id="rId10" Type="http://schemas.openxmlformats.org/officeDocument/2006/relationships/hyperlink" Target="http://images.google.com/imgres?imgurl=http://www.emc.maricopa.edu/faculty/farabee/BIOBK/muscle2.gif&amp;imgrefurl=http://www.emc.maricopa.edu/faculty/farabee/BIOBK/BioBookMUSSKEL.html&amp;h=344&amp;w=534&amp;sz=44&amp;tbnid=MqdDtBpHoE3IGM:&amp;tbnh=83&amp;tbnw=129&amp;hl=en&amp;start=5&amp;prev=/images%3Fq%3Danimal%2B%2Bskeletal%2Bsystem%26svnum%3D10%26hl%3Den%26lr%3D%26sa%3DG" TargetMode="External"/><Relationship Id="rId11" Type="http://schemas.openxmlformats.org/officeDocument/2006/relationships/image" Target="../media/image72.jpeg"/><Relationship Id="rId12" Type="http://schemas.openxmlformats.org/officeDocument/2006/relationships/hyperlink" Target="http://images.google.com/imgres?imgurl=http://www.afghanhoundsoz.com.au/Breed%2520Extension/Graphics/Skeletal-Structure-1.gif&amp;imgrefurl=http://www.afghanhoundsoz.com.au/Breed%2520Extension/Breed-Extension%2520intro.htm&amp;h=675&amp;w=745&amp;sz=69&amp;tbnid=f8ZZhONurT1rEM:&amp;tbnh=126&amp;tbnw=140&amp;hl=en&amp;start=19&amp;prev=/images%3Fq%3Dskeletal%2Bstructure%26svnum%3D10%26hl%3Den%26lr%3D%26sa%3DN" TargetMode="External"/><Relationship Id="rId13" Type="http://schemas.openxmlformats.org/officeDocument/2006/relationships/image" Target="../media/image73.jpeg"/><Relationship Id="rId14" Type="http://schemas.openxmlformats.org/officeDocument/2006/relationships/hyperlink" Target="http://www.theworldwidegourmet.com/divers/egg/egg.htm" TargetMode="External"/><Relationship Id="rId15" Type="http://schemas.openxmlformats.org/officeDocument/2006/relationships/image" Target="../media/image74.jpeg"/><Relationship Id="rId16" Type="http://schemas.openxmlformats.org/officeDocument/2006/relationships/image" Target="../media/image75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rfish.govt.nz/science/facts/fact-fish-chars.htm" TargetMode="External"/><Relationship Id="rId2" Type="http://schemas.openxmlformats.org/officeDocument/2006/relationships/hyperlink" Target="http://www.starfish.govt.nz/science/facts/fact-fish-chars.htm" TargetMode="External"/><Relationship Id="rId3" Type="http://schemas.openxmlformats.org/officeDocument/2006/relationships/hyperlink" Target="http://www.xmlpdf.com/xmlpdf-examples-net.html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/imgres?imgurl=http://www.richard-seaman.com/USA/States/Illinois/VoloBog/GrayTreeFrogOnBranch.jpg&amp;imgrefurl=http://www.richard-seaman.com/USA/States/Illinois/VoloBog/&amp;h=705&amp;w=863&amp;sz=61&amp;tbnid=I2pxyY6Vk7tMjM:&amp;tbnh=117&amp;tbnw=144&amp;hl=en&amp;start=26&amp;prev=/images%3Fq%3Dfrog%26start%3D20%26svnum%3D10%26hl%3Den%26lr%3D%26sa%3DN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www.photo.net/photo/pcd1641/polar-bear-slumped-60.tcl" TargetMode="External"/><Relationship Id="rId8" Type="http://schemas.openxmlformats.org/officeDocument/2006/relationships/image" Target="../media/image11.jpeg"/><Relationship Id="rId9" Type="http://schemas.openxmlformats.org/officeDocument/2006/relationships/hyperlink" Target="http://www.cohsoft.com.au/nature/gallery/alpha.html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images.google.com/imgres?imgurl=http://thomas.voirol.com/oriacuba/images/oria/diving/Moonfish2.jpg&amp;imgrefurl=http://thomas.voirol.com/oriacuba/diving.htm&amp;h=368&amp;w=640&amp;sz=39&amp;tbnid=chY-KjocKu1fzM:&amp;tbnh=77&amp;tbnw=135&amp;hl=en&amp;start=12&amp;prev=/images%3Fq%3Dfish%26svnum%3D10%26hl%3Den%26lr%3D%26sa%3DN" TargetMode="External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nsected.arizona.edu/lessons.htm" TargetMode="External"/><Relationship Id="rId2" Type="http://schemas.openxmlformats.org/officeDocument/2006/relationships/hyperlink" Target="http://www.mesa.edu.au/friends/seashores/sponges.html" TargetMode="External"/><Relationship Id="rId3" Type="http://schemas.openxmlformats.org/officeDocument/2006/relationships/hyperlink" Target="http://en.wikipedia.org/wiki/Snail" TargetMode="External"/><Relationship Id="rId4" Type="http://schemas.openxmlformats.org/officeDocument/2006/relationships/hyperlink" Target="http://mbgnet.mobot.org/salt/animals/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www.graficimages.com/Nature.htm" TargetMode="External"/><Relationship Id="rId7" Type="http://schemas.openxmlformats.org/officeDocument/2006/relationships/image" Target="../media/image15.jpeg"/><Relationship Id="rId8" Type="http://schemas.openxmlformats.org/officeDocument/2006/relationships/hyperlink" Target="http://www.worldangler.com/Fly%20Tying/bunny.htm" TargetMode="External"/><Relationship Id="rId9" Type="http://schemas.openxmlformats.org/officeDocument/2006/relationships/image" Target="../media/image16.jpeg"/><Relationship Id="rId10" Type="http://schemas.openxmlformats.org/officeDocument/2006/relationships/hyperlink" Target="http://minutillo.com/steve/weblog/2003/10/05/now-thats-a-spider" TargetMode="External"/><Relationship Id="rId11" Type="http://schemas.openxmlformats.org/officeDocument/2006/relationships/image" Target="../media/image17.jpeg"/><Relationship Id="rId12" Type="http://schemas.openxmlformats.org/officeDocument/2006/relationships/hyperlink" Target="http://www.berkeley.edu/news/media/releases/2005/03/03_beetles.shtml" TargetMode="External"/><Relationship Id="rId13" Type="http://schemas.openxmlformats.org/officeDocument/2006/relationships/image" Target="../media/image18.jpeg"/><Relationship Id="rId14" Type="http://schemas.openxmlformats.org/officeDocument/2006/relationships/hyperlink" Target="http://images.google.com/imgres?imgurl=http://www.adias-uae.com/images/crab-figure2.jpg&amp;imgrefurl=http://www.adias-uae.com/press2002.html&amp;h=150&amp;w=250&amp;sz=18&amp;tbnid=DmvyKb8ZmQHZWM:&amp;tbnh=63&amp;tbnw=106&amp;hl=en&amp;start=5&amp;prev=/images%3Fq%3Dcrab%26svnum%3D10%26hl%3Den%26lr%3D%26sa%3DG" TargetMode="External"/><Relationship Id="rId15" Type="http://schemas.openxmlformats.org/officeDocument/2006/relationships/image" Target="../media/image19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idport.com/RefLib/Science/Animals/Insects.htm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kidport.com/RefLib/Science/Animals/Amphibians.htm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www.kidport.com/RefLib/Science/Animals/Reptiles.htm" TargetMode="External"/><Relationship Id="rId6" Type="http://schemas.openxmlformats.org/officeDocument/2006/relationships/image" Target="../media/image22.jpeg"/><Relationship Id="rId7" Type="http://schemas.openxmlformats.org/officeDocument/2006/relationships/hyperlink" Target="http://www.kidport.com/RefLib/Science/Animals/Whales.htm" TargetMode="External"/><Relationship Id="rId8" Type="http://schemas.openxmlformats.org/officeDocument/2006/relationships/image" Target="../media/image23.jpeg"/><Relationship Id="rId9" Type="http://schemas.openxmlformats.org/officeDocument/2006/relationships/hyperlink" Target="http://www.kidport.com/RefLib/Science/Animals/Fish.htm" TargetMode="External"/><Relationship Id="rId10" Type="http://schemas.openxmlformats.org/officeDocument/2006/relationships/image" Target="../media/image24.jpeg"/><Relationship Id="rId11" Type="http://schemas.openxmlformats.org/officeDocument/2006/relationships/hyperlink" Target="http://www.kidport.com/RefLib/Science/Animals/Protozoa.htm" TargetMode="External"/><Relationship Id="rId12" Type="http://schemas.openxmlformats.org/officeDocument/2006/relationships/image" Target="../media/image25.jpeg"/><Relationship Id="rId13" Type="http://schemas.openxmlformats.org/officeDocument/2006/relationships/hyperlink" Target="http://www.kidport.com/RefLib/Science/Animals/Crustaceans.htm" TargetMode="External"/><Relationship Id="rId14" Type="http://schemas.openxmlformats.org/officeDocument/2006/relationships/image" Target="../media/image26.jpeg"/><Relationship Id="rId15" Type="http://schemas.openxmlformats.org/officeDocument/2006/relationships/image" Target="../media/image27.jpeg"/><Relationship Id="rId16" Type="http://schemas.openxmlformats.org/officeDocument/2006/relationships/image" Target="../media/image28.jpeg"/><Relationship Id="rId17" Type="http://schemas.openxmlformats.org/officeDocument/2006/relationships/hyperlink" Target="http://images.google.com/imgres?imgurl=http://web.syr.edu/~cjbryzgo/monkey%2520smile.jpg&amp;imgrefurl=http://web.syr.edu/~cjbryzgo/&amp;h=324&amp;w=342&amp;sz=16&amp;tbnid=Semaik4QPxqhaM:&amp;tbnh=108&amp;tbnw=115&amp;hl=en&amp;start=1&amp;prev=/images%3Fq%3Dmonkey%26svnum%3D10%26hl%3Den%26lr%3D" TargetMode="External"/><Relationship Id="rId18" Type="http://schemas.openxmlformats.org/officeDocument/2006/relationships/image" Target="../media/image29.jpeg"/><Relationship Id="rId19" Type="http://schemas.openxmlformats.org/officeDocument/2006/relationships/hyperlink" Target="http://bcuniversal.com/familyimages/Octopus%20in%20aquarium.JPG" TargetMode="External"/><Relationship Id="rId20" Type="http://schemas.openxmlformats.org/officeDocument/2006/relationships/image" Target="../media/image30.jpeg"/><Relationship Id="rId21" Type="http://schemas.openxmlformats.org/officeDocument/2006/relationships/hyperlink" Target="http://images.google.com/imgres?imgurl=http://1kai.dokkyomed.ac.jp/mammal/images/living/medium/27-85m.jpg&amp;imgrefurl=http://1kai.dokkyomed.ac.jp/mammal/en/living/macropus_rufus.html&amp;h=620&amp;w=720&amp;sz=81&amp;tbnid=p9FVORIzdGGXuM:&amp;tbnh=119&amp;tbnw=139&amp;hl=en&amp;start=14&amp;prev=/images%3Fq%3Dkangaroo%26svnum%3D10%26hl%3Den%26lr%3D" TargetMode="External"/><Relationship Id="rId22" Type="http://schemas.openxmlformats.org/officeDocument/2006/relationships/image" Target="../media/image31.jpeg"/><Relationship Id="rId23" Type="http://schemas.openxmlformats.org/officeDocument/2006/relationships/hyperlink" Target="http://www.kidport.com/RefLib/Science/Animals/Arachnids.htm" TargetMode="External"/><Relationship Id="rId24" Type="http://schemas.openxmlformats.org/officeDocument/2006/relationships/image" Target="../media/image32.jpeg"/><Relationship Id="rId25" Type="http://schemas.openxmlformats.org/officeDocument/2006/relationships/hyperlink" Target="http://www.kidport.com/RefLib/Science/Animals/Mammals.htm" TargetMode="External"/><Relationship Id="rId26" Type="http://schemas.openxmlformats.org/officeDocument/2006/relationships/image" Target="../media/image33.jpeg"/><Relationship Id="rId27" Type="http://schemas.openxmlformats.org/officeDocument/2006/relationships/hyperlink" Target="http://images.google.com/imgres?imgurl=http://www.sosweb.state.ar.us/education/activity/images/bird.jpg&amp;imgrefurl=http://www.sosweb.state.ar.us/education/activity/bird.html&amp;h=221&amp;w=285&amp;sz=19&amp;tbnid=UMm3KrgJqm_2hM:&amp;tbnh=85&amp;tbnw=110&amp;hl=en&amp;start=2&amp;prev=/images%3Fq%3Dbird%26svnum%3D10%26hl%3Den%26lr%3D" TargetMode="External"/><Relationship Id="rId28" Type="http://schemas.openxmlformats.org/officeDocument/2006/relationships/image" Target="../media/image34.jpeg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ort.purdue.edu/ext/senior/fruits/peach2.htm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www.wallpaper.net.au/wallpaper_plants1.php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://www.botany.utoronto.ca/courses/BOT307/D_Families/307D1conif.html" TargetMode="External"/><Relationship Id="rId6" Type="http://schemas.openxmlformats.org/officeDocument/2006/relationships/image" Target="../media/image37.jpeg"/><Relationship Id="rId7" Type="http://schemas.openxmlformats.org/officeDocument/2006/relationships/hyperlink" Target="http://biology.clc.uc.edu/graphics/taxonomy/plants/spermatophyta/angiosperms/dicotyledonae/Rutaceae/Gas%20Plant/" TargetMode="External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stockphoto.com/imageindex/272/4/272423/rock_lichen_colourful_plants.html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www.discoverlife.org/nh/tx/Plantae/" TargetMode="External"/><Relationship Id="rId4" Type="http://schemas.openxmlformats.org/officeDocument/2006/relationships/image" Target="../media/image40.jpeg"/><Relationship Id="rId5" Type="http://schemas.openxmlformats.org/officeDocument/2006/relationships/hyperlink" Target="http://biology.clc.uc.edu/graphics/taxonomy/plants/Bryophyta/Mosses/" TargetMode="External"/><Relationship Id="rId6" Type="http://schemas.openxmlformats.org/officeDocument/2006/relationships/image" Target="../media/image41.jpeg"/><Relationship Id="rId7" Type="http://schemas.openxmlformats.org/officeDocument/2006/relationships/hyperlink" Target="http://www.evergreennurseryinc.net/plants/dryop_dw.htm" TargetMode="External"/><Relationship Id="rId8" Type="http://schemas.openxmlformats.org/officeDocument/2006/relationships/image" Target="../media/image42.jpeg"/><Relationship Id="rId9" Type="http://schemas.openxmlformats.org/officeDocument/2006/relationships/hyperlink" Target="http://www.njscuba.net/biology/sw_plants_etc.html" TargetMode="External"/><Relationship Id="rId10" Type="http://schemas.openxmlformats.org/officeDocument/2006/relationships/image" Target="../media/image4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iology.iastate.edu/Courses/202L/New%2520Site%2520S05/R%26S%2520imgs/RtSyst/taproot.jpg&amp;imgrefurl=http://www.biology.iastate.edu/Courses/202L/New%2520Site%2520S05/25rtstm%2520index.html&amp;h=288&amp;w=190&amp;sz=31&amp;tbnid=jnok3tImfj4FvM:&amp;tbnh=110&amp;tbnw=72&amp;hl=en&amp;start=122&amp;prev=/images%3Fq%3Dtaproot%2B%26start%3D120%26svnum%3D10%26hl%3Den%26lr%3D%26sa%3DN" TargetMode="External"/><Relationship Id="rId2" Type="http://schemas.openxmlformats.org/officeDocument/2006/relationships/image" Target="../media/image44.jpeg"/><Relationship Id="rId3" Type="http://schemas.openxmlformats.org/officeDocument/2006/relationships/hyperlink" Target="http://images.google.com/imgres?imgurl=http://www.science.smith.edu/departments/Biology/Bio111/xsmith/plants/fibrusroot.gif&amp;imgrefurl=http://www.science.smith.edu/departments/Biology/Bio111/xsmith/plants/default.html&amp;h=230&amp;w=225&amp;sz=50&amp;tbnid=bxI4VnOTxO3jOM:&amp;tbnh=103&amp;tbnw=100&amp;hl=en&amp;start=5&amp;prev=/images%3Fq%3Dfibrous%2Broot%2Bsystem%26svnum%3D10%26hl%3Den%26lr%3D%26sa%3DG" TargetMode="External"/><Relationship Id="rId4" Type="http://schemas.openxmlformats.org/officeDocument/2006/relationships/image" Target="../media/image45.jpeg"/><Relationship Id="rId5" Type="http://schemas.openxmlformats.org/officeDocument/2006/relationships/hyperlink" Target="http://www.cce.cornell.edu/allegany-cattaraugus/HortImages/ChervilStem.jpg" TargetMode="External"/><Relationship Id="rId6" Type="http://schemas.openxmlformats.org/officeDocument/2006/relationships/image" Target="../media/image46.jpeg"/><Relationship Id="rId7" Type="http://schemas.openxmlformats.org/officeDocument/2006/relationships/hyperlink" Target="http://images.google.com/imgres?imgurl=http://helios.bto.ed.ac.uk/bto/desbiome/sagwoodx.jpg&amp;imgrefurl=http://helios.bto.ed.ac.uk/bto/desbiome/sagima12.htm&amp;h=379&amp;w=302&amp;sz=27&amp;tbnid=2A24b1w_iOS3uM:&amp;tbnh=119&amp;tbnw=94&amp;hl=en&amp;start=163&amp;prev=/images%3Fq%3Dwoody%2Bstem%26start%3D160%26svnum%3D10%26hl%3Den%26lr%3D%26sa%3DN" TargetMode="External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7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8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388A-F0F1-4AE0-A9B7-788E2796FAF2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dd2b0d"/>
                </a:solidFill>
                <a:latin typeface="Comic Sans MS"/>
              </a:rPr>
              <a:t>How Scientists group living Things?</a:t>
            </a:r>
            <a:endParaRPr b="1" lang="en-US" sz="3400" spc="-1" strike="noStrike">
              <a:solidFill>
                <a:srgbClr val="ff0066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914400"/>
          <a:ext cx="9067680" cy="5362560"/>
        </p:xfrm>
        <a:graphic>
          <a:graphicData uri="http://schemas.openxmlformats.org/drawingml/2006/table">
            <a:tbl>
              <a:tblPr/>
              <a:tblGrid>
                <a:gridCol w="2895480"/>
                <a:gridCol w="3780000"/>
                <a:gridCol w="2392200"/>
              </a:tblGrid>
              <a:tr h="612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dd2b0d"/>
                          </a:solidFill>
                          <a:latin typeface="Comic Sans MS"/>
                        </a:rPr>
                        <a:t>Classification of Living Thin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009999"/>
                          </a:solidFill>
                          <a:uFillTx/>
                          <a:latin typeface="Microsoft Sans Serif"/>
                          <a:hlinkClick r:id="rId1"/>
                        </a:rPr>
                        <a:t>Five Kingdo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Animal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y-celled, feed on other living th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, dogs, fish, fro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Plan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y-celled, make their own f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es, flowers, gr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Fung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many celled, absorb food from other living or dead th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hrooms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Protis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cell, make their own food or feed on other ling th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ae, amoeb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Monera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ell nuclei, make their own food or f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te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Picture 132" descr="koala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00200" y="198108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9" descr="9858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600200" y="2819520"/>
            <a:ext cx="1143000" cy="71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7" descr="bud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600200" y="4648320"/>
            <a:ext cx="1143000" cy="703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92" descr="T045376A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600200" y="5486400"/>
            <a:ext cx="1143000" cy="712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9" descr="mushroom3"/>
          <p:cNvPicPr/>
          <p:nvPr/>
        </p:nvPicPr>
        <p:blipFill>
          <a:blip r:embed="rId15"/>
          <a:stretch/>
        </p:blipFill>
        <p:spPr>
          <a:xfrm>
            <a:off x="1600200" y="3657600"/>
            <a:ext cx="114300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6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7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A755-8365-4DC6-BA66-B7B57599E2E0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8" descr="potreleaf"/>
          <p:cNvPicPr/>
          <p:nvPr/>
        </p:nvPicPr>
        <p:blipFill>
          <a:blip r:embed="rId1"/>
          <a:stretch/>
        </p:blipFill>
        <p:spPr>
          <a:xfrm>
            <a:off x="5410080" y="4245120"/>
            <a:ext cx="1981440" cy="15904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b0d"/>
                </a:solidFill>
                <a:latin typeface="Comic Sans MS"/>
              </a:rPr>
              <a:t>Plants Anatomy Cont’s…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8" name="Line 34"/>
          <p:cNvSpPr/>
          <p:nvPr/>
        </p:nvSpPr>
        <p:spPr>
          <a:xfrm>
            <a:off x="4343400" y="4343400"/>
            <a:ext cx="28954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7" descr="240px-Closeuppineneedless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2209680"/>
            <a:ext cx="1143000" cy="1276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dd2b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main types of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spcBef>
                <a:spcPts val="587"/>
              </a:spcBef>
              <a:buClr>
                <a:srgbClr val="dd2b0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d2b0d"/>
                </a:solidFill>
                <a:latin typeface="Arial"/>
              </a:rPr>
              <a:t>Needle leaves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re thin pointed, and very tough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spcBef>
                <a:spcPts val="587"/>
              </a:spcBef>
              <a:buClr>
                <a:srgbClr val="dd2b0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d2b0d"/>
                </a:solidFill>
                <a:latin typeface="Arial"/>
              </a:rPr>
              <a:t>Broad leaves,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re wider and expose more surface to the su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6477120" y="3581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8077320" y="3581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533520" y="91440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tubes which carry water are called </a:t>
            </a:r>
            <a:r>
              <a:rPr b="1" lang="en-US" sz="2200" spc="-1" strike="noStrike">
                <a:solidFill>
                  <a:srgbClr val="dd2b0d"/>
                </a:solidFill>
                <a:latin typeface="Comic Sans MS"/>
              </a:rPr>
              <a:t>xylem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d the ones that carry  the food are called </a:t>
            </a:r>
            <a:r>
              <a:rPr b="1" lang="en-US" sz="2200" spc="-1" strike="noStrike">
                <a:solidFill>
                  <a:srgbClr val="dd2b0d"/>
                </a:solidFill>
                <a:latin typeface="Comic Sans MS"/>
              </a:rPr>
              <a:t>phloem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3" descr="broad_leave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96080" y="2209680"/>
            <a:ext cx="1143000" cy="12700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25"/>
          <p:cNvSpPr/>
          <p:nvPr/>
        </p:nvSpPr>
        <p:spPr>
          <a:xfrm>
            <a:off x="0" y="3581280"/>
            <a:ext cx="5029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dd2b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parts of a le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6"/>
              </a:spcBef>
              <a:buClr>
                <a:srgbClr val="dd2b0d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entral stalk called the “</a:t>
            </a:r>
            <a:r>
              <a:rPr b="0" lang="en-US" sz="1900" spc="-1" strike="noStrike">
                <a:solidFill>
                  <a:srgbClr val="dd2b0d"/>
                </a:solidFill>
                <a:latin typeface="Arial"/>
              </a:rPr>
              <a:t>petiol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6"/>
              </a:spcBef>
              <a:buClr>
                <a:srgbClr val="dd2b0d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d2b0d"/>
                </a:solidFill>
                <a:latin typeface="Arial"/>
              </a:rPr>
              <a:t>Lamina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s the blade of a leaf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6"/>
              </a:spcBef>
              <a:buClr>
                <a:srgbClr val="dd2b0d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d2b0d"/>
                </a:solidFill>
                <a:latin typeface="Arial"/>
              </a:rPr>
              <a:t>Veins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rry  the water and foo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6"/>
              </a:spcBef>
              <a:buClr>
                <a:srgbClr val="dd2b0d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iny holes microscopic in size, called “</a:t>
            </a:r>
            <a:r>
              <a:rPr b="0" lang="en-US" sz="1900" spc="-1" strike="noStrike">
                <a:solidFill>
                  <a:srgbClr val="dd2b0d"/>
                </a:solidFill>
                <a:latin typeface="Arial"/>
              </a:rPr>
              <a:t>stomat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dd2b0d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d2b0d"/>
                </a:solidFill>
                <a:latin typeface="Arial"/>
              </a:rPr>
              <a:t>Midr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central rib of a lea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9"/>
          <p:cNvSpPr/>
          <p:nvPr/>
        </p:nvSpPr>
        <p:spPr>
          <a:xfrm>
            <a:off x="5715000" y="5867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 to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1"/>
          <p:cNvSpPr/>
          <p:nvPr/>
        </p:nvSpPr>
        <p:spPr>
          <a:xfrm>
            <a:off x="4495680" y="4952880"/>
            <a:ext cx="160020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3"/>
          <p:cNvSpPr/>
          <p:nvPr/>
        </p:nvSpPr>
        <p:spPr>
          <a:xfrm>
            <a:off x="4114800" y="4572000"/>
            <a:ext cx="12952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5"/>
          <p:cNvSpPr/>
          <p:nvPr/>
        </p:nvSpPr>
        <p:spPr>
          <a:xfrm>
            <a:off x="5486400" y="4648320"/>
            <a:ext cx="1600200" cy="9144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2"/>
          <p:cNvSpPr/>
          <p:nvPr/>
        </p:nvSpPr>
        <p:spPr>
          <a:xfrm flipV="1">
            <a:off x="2819520" y="5486400"/>
            <a:ext cx="327636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6"/>
          <p:cNvSpPr/>
          <p:nvPr/>
        </p:nvSpPr>
        <p:spPr>
          <a:xfrm flipV="1">
            <a:off x="4343400" y="5105520"/>
            <a:ext cx="22860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6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7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0A63-708D-423B-9931-529A039FD1CF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9" descr=""/>
          <p:cNvPicPr/>
          <p:nvPr/>
        </p:nvPicPr>
        <p:blipFill>
          <a:blip r:embed="rId1"/>
          <a:stretch/>
        </p:blipFill>
        <p:spPr>
          <a:xfrm>
            <a:off x="7086600" y="44956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90000"/>
              </a:lnSpc>
              <a:spcBef>
                <a:spcPts val="550"/>
              </a:spcBef>
              <a:buClr>
                <a:srgbClr val="dd2b0d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natomy of a fl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Ant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ip of a flower's sta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Stamen</a:t>
            </a:r>
            <a:r>
              <a:rPr b="0" lang="en-US" sz="2000" spc="-1" strike="noStrike">
                <a:solidFill>
                  <a:srgbClr val="dd2b0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ale reproductive organ, contains the poll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Filament</a:t>
            </a:r>
            <a:r>
              <a:rPr b="0" lang="en-US" sz="2000" spc="-1" strike="noStrike">
                <a:solidFill>
                  <a:srgbClr val="dd2b0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olds the anther and part of the stam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Ovary</a:t>
            </a:r>
            <a:r>
              <a:rPr b="0" lang="en-US" sz="2000" spc="-1" strike="noStrike">
                <a:solidFill>
                  <a:srgbClr val="dd2b0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s a female reproductive organ, base of the pisti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Petal</a:t>
            </a:r>
            <a:r>
              <a:rPr b="0" lang="en-US" sz="2000" spc="-1" strike="noStrike">
                <a:solidFill>
                  <a:srgbClr val="dd2b0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eafy structures that comprise a fl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Sepal</a:t>
            </a:r>
            <a:r>
              <a:rPr b="0" lang="en-US" sz="2000" spc="-1" strike="noStrike">
                <a:solidFill>
                  <a:srgbClr val="dd2b0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mall leaves located directly under a fl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St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upports the pl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Stigm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ppermost part of the pistil, receives the male po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228600" y="152280"/>
            <a:ext cx="8686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dd2b0d"/>
                </a:solidFill>
                <a:latin typeface="Comic Sans MS"/>
              </a:rPr>
              <a:t>Flowering pla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ave a characteristics that all other kinds of plants do not hav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dd2b0d"/>
                </a:solidFill>
                <a:latin typeface="Comic Sans MS"/>
              </a:rPr>
              <a:t>flow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 part of the plant where seeds are mad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6781680" y="5867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4800600" y="1371600"/>
            <a:ext cx="4343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666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Pisti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female reproductive tissue of a flow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Sty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s a long tube on top of the ovary, and below the stig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24"/>
          <p:cNvGraphicFramePr/>
          <p:nvPr/>
        </p:nvGraphicFramePr>
        <p:xfrm>
          <a:off x="5181480" y="3505320"/>
          <a:ext cx="3733920" cy="228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3505320"/>
                    <a:ext cx="3733920" cy="22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26"/>
          <p:cNvGraphicFramePr/>
          <p:nvPr/>
        </p:nvGraphicFramePr>
        <p:xfrm>
          <a:off x="7315200" y="6324480"/>
          <a:ext cx="1135080" cy="19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Object 2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15200" y="6324480"/>
                    <a:ext cx="1135080" cy="1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27"/>
          <p:cNvGraphicFramePr/>
          <p:nvPr/>
        </p:nvGraphicFramePr>
        <p:xfrm>
          <a:off x="8008920" y="6324480"/>
          <a:ext cx="1135080" cy="190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4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08920" y="6324480"/>
                    <a:ext cx="1135080" cy="1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6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7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39FD-1E62-4B93-934E-CC57AF91A52A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b0d"/>
                </a:solidFill>
                <a:latin typeface="Comic Sans MS"/>
              </a:rPr>
              <a:t>Classifying Leaves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7086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tudents should classify different leaves according to their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F SHAP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only-employed term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Ov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gg-shaped with the larger end at the bott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Ellip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haped like an ellipse, tapered at both ends and with curved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Oblo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apered to both ends, but with the sides more or less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Lanceo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haped like the tip of a 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0" descr="Cest-iraz-lfv-8559-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43800" y="3124080"/>
            <a:ext cx="1295280" cy="838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3" descr="sclbD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4038480"/>
            <a:ext cx="1285920" cy="838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6" descr="hojas_syzygium_jambo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5486400"/>
            <a:ext cx="1295280" cy="755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7" descr="ovateleaf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543800" y="2209680"/>
            <a:ext cx="129528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6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7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652A-4C90-4906-9BA4-E23B1F43B0AC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b0d"/>
                </a:solidFill>
                <a:latin typeface="Comic Sans MS"/>
              </a:rPr>
              <a:t>Classifying Leaves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6553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F SHAP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only-employed term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ong and thin, with the sides parallel. Like grass le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Orbic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early circular in out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Cord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heart-shaped with the wide part at the bott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Ha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ith two basal lobes that point straight 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hb36413_s3%255B2%255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819520"/>
            <a:ext cx="1067040" cy="914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leav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1752480"/>
            <a:ext cx="1143000" cy="906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leaves1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86600" y="3733920"/>
            <a:ext cx="1066680" cy="857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foliage_75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91320" y="5257800"/>
            <a:ext cx="114300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6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7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0271-4613-4911-ACCE-E74EFF19C17E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b0d"/>
                </a:solidFill>
                <a:latin typeface="Comic Sans MS"/>
              </a:rPr>
              <a:t>Classifying Leaves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5943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F SHAP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mmonly-employed term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Sagit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ith two basal lobes that point back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Pel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ith the petiole attached to the center of the underside of the b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Perfoli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ith the petiole appearing to run through the center of the lea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Te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ircular in cross-se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sagitta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2133720"/>
            <a:ext cx="1314360" cy="83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peltata_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77120" y="3276720"/>
            <a:ext cx="1285920" cy="83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Lonicera%2520sempervirens%2520perfoliat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77120" y="4343400"/>
            <a:ext cx="1295280" cy="8571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3" descr="Phlox_bifida_stem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943600" y="5410080"/>
            <a:ext cx="12952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7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8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94BC-D0B8-4CBC-BB73-CAA53ECDB5F3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b0d"/>
                </a:solidFill>
                <a:latin typeface="Comic Sans MS"/>
              </a:rPr>
              <a:t>Common Characteristics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57200" y="762120"/>
          <a:ext cx="8001000" cy="5486400"/>
        </p:xfrm>
        <a:graphic>
          <a:graphicData uri="http://schemas.openxmlformats.org/drawingml/2006/table">
            <a:tbl>
              <a:tblPr/>
              <a:tblGrid>
                <a:gridCol w="3809880"/>
                <a:gridCol w="41911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Cells as part of the anato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Cells as part of the anato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Arteries and Veins</a:t>
                      </a:r>
                      <a:r>
                        <a:rPr b="0" lang="en-US" sz="2400" spc="-1" strike="noStrike">
                          <a:solidFill>
                            <a:srgbClr val="dd2b0d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d2b0d"/>
                          </a:solidFill>
                          <a:latin typeface="Comic Sans MS"/>
                        </a:rPr>
                        <a:t>              </a:t>
                      </a: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Xylem and phloem, roo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Reproductive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Eg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Reproductive System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See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Respirato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Respirato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Skeletal 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dd2b0d"/>
                          </a:solidFill>
                          <a:latin typeface="Arial"/>
                        </a:rPr>
                        <a:t>Branches, Leaves,                                    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3" name="Picture 26" descr="animcell"/>
          <p:cNvPicPr/>
          <p:nvPr/>
        </p:nvPicPr>
        <p:blipFill>
          <a:blip r:embed="rId1"/>
          <a:stretch/>
        </p:blipFill>
        <p:spPr>
          <a:xfrm>
            <a:off x="533520" y="1295280"/>
            <a:ext cx="1143000" cy="81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4" name="Object 27"/>
          <p:cNvGraphicFramePr/>
          <p:nvPr/>
        </p:nvGraphicFramePr>
        <p:xfrm>
          <a:off x="4419720" y="2209680"/>
          <a:ext cx="1143000" cy="79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5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2209680"/>
                    <a:ext cx="11430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28"/>
          <p:cNvGraphicFramePr/>
          <p:nvPr/>
        </p:nvGraphicFramePr>
        <p:xfrm>
          <a:off x="4419720" y="4114800"/>
          <a:ext cx="914400" cy="76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4114800"/>
                    <a:ext cx="9144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8" name="Picture 29" descr="lung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3520" y="4114800"/>
            <a:ext cx="990360" cy="819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0" descr="11419a"/>
          <p:cNvPicPr/>
          <p:nvPr/>
        </p:nvPicPr>
        <p:blipFill>
          <a:blip r:embed="rId8"/>
          <a:stretch/>
        </p:blipFill>
        <p:spPr>
          <a:xfrm>
            <a:off x="4343400" y="1219320"/>
            <a:ext cx="1143000" cy="901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1" descr="anatomy"/>
          <p:cNvPicPr/>
          <p:nvPr/>
        </p:nvPicPr>
        <p:blipFill>
          <a:blip r:embed="rId9"/>
          <a:stretch/>
        </p:blipFill>
        <p:spPr>
          <a:xfrm>
            <a:off x="4419720" y="5029200"/>
            <a:ext cx="914400" cy="12193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2" descr="muscle2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33520" y="2209680"/>
            <a:ext cx="1228680" cy="790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3" descr="Skeletal-Structure-1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33520" y="5029200"/>
            <a:ext cx="1295280" cy="11653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4" descr="oeufs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33520" y="3124080"/>
            <a:ext cx="1096920" cy="8683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5" descr="seed_services"/>
          <p:cNvPicPr/>
          <p:nvPr/>
        </p:nvPicPr>
        <p:blipFill>
          <a:blip r:embed="rId16"/>
          <a:stretch/>
        </p:blipFill>
        <p:spPr>
          <a:xfrm>
            <a:off x="4343400" y="3152880"/>
            <a:ext cx="114300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18AE-2AED-4AF9-891B-5646A7CE99E0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b0d"/>
                </a:solidFill>
                <a:latin typeface="Comic Sans MS"/>
              </a:rPr>
              <a:t>Different Characteristics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imals move freely and plants are rooted in the soil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imals take in oxygen and give off carbon dioxid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imals do not make their own food and do not have chlorophy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imal cells do not have a cell wall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imals eat plants, but plants do not eat animals generally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imals in general are more advanced in their structure than plant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7CD0-D036-419D-85A9-B108B5780E52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2b0d"/>
                </a:solidFill>
                <a:latin typeface="Comic Sans MS"/>
              </a:rPr>
              <a:t>Website Activities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2" name="Oval 3"/>
          <p:cNvSpPr/>
          <p:nvPr/>
        </p:nvSpPr>
        <p:spPr>
          <a:xfrm>
            <a:off x="2187720" y="417816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c0c0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4"/>
          <p:cNvSpPr/>
          <p:nvPr/>
        </p:nvSpPr>
        <p:spPr>
          <a:xfrm rot="20601600">
            <a:off x="1461960" y="20649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5"/>
          <p:cNvSpPr/>
          <p:nvPr/>
        </p:nvSpPr>
        <p:spPr>
          <a:xfrm rot="20601600">
            <a:off x="1517400" y="190332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rc 6"/>
          <p:cNvSpPr/>
          <p:nvPr/>
        </p:nvSpPr>
        <p:spPr>
          <a:xfrm rot="20601600">
            <a:off x="4390920" y="2975040"/>
            <a:ext cx="2652840" cy="1320840"/>
          </a:xfrm>
          <a:custGeom>
            <a:avLst/>
            <a:gdLst>
              <a:gd name="textAreaLeft" fmla="*/ 0 w 2652840"/>
              <a:gd name="textAreaRight" fmla="*/ 2653200 w 2652840"/>
              <a:gd name="textAreaTop" fmla="*/ 0 h 1320840"/>
              <a:gd name="textAreaBottom" fmla="*/ 1320840 h 1320840"/>
            </a:gdLst>
            <a:ahLst/>
            <a:rect l="textAreaLeft" t="textAreaTop" r="textAreaRight" b="textAreaBottom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rc 7"/>
          <p:cNvSpPr/>
          <p:nvPr/>
        </p:nvSpPr>
        <p:spPr>
          <a:xfrm rot="20601600">
            <a:off x="4167360" y="1981080"/>
            <a:ext cx="2849400" cy="1538280"/>
          </a:xfrm>
          <a:custGeom>
            <a:avLst/>
            <a:gdLst>
              <a:gd name="textAreaLeft" fmla="*/ 0 w 2849400"/>
              <a:gd name="textAreaRight" fmla="*/ 2849760 w 28494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rc 8"/>
          <p:cNvSpPr/>
          <p:nvPr/>
        </p:nvSpPr>
        <p:spPr>
          <a:xfrm flipH="1" rot="20602200">
            <a:off x="1599480" y="3276360"/>
            <a:ext cx="2876400" cy="1629720"/>
          </a:xfrm>
          <a:custGeom>
            <a:avLst/>
            <a:gdLst>
              <a:gd name="textAreaLeft" fmla="*/ 360 w 2876400"/>
              <a:gd name="textAreaRight" fmla="*/ 2877120 w 2876400"/>
              <a:gd name="textAreaTop" fmla="*/ 0 h 1629720"/>
              <a:gd name="textAreaBottom" fmla="*/ 1630080 h 162972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rc 9"/>
          <p:cNvSpPr/>
          <p:nvPr/>
        </p:nvSpPr>
        <p:spPr>
          <a:xfrm rot="20601600">
            <a:off x="3409920" y="1709640"/>
            <a:ext cx="2814840" cy="1417680"/>
          </a:xfrm>
          <a:custGeom>
            <a:avLst/>
            <a:gdLst>
              <a:gd name="textAreaLeft" fmla="*/ 0 w 2814840"/>
              <a:gd name="textAreaRight" fmla="*/ 2815200 w 28148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rc 10"/>
          <p:cNvSpPr/>
          <p:nvPr/>
        </p:nvSpPr>
        <p:spPr>
          <a:xfrm flipH="1" rot="20602200">
            <a:off x="1371240" y="2361960"/>
            <a:ext cx="2762280" cy="1380960"/>
          </a:xfrm>
          <a:prstGeom prst="pie">
            <a:avLst/>
          </a:pr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11"/>
          <p:cNvSpPr/>
          <p:nvPr/>
        </p:nvSpPr>
        <p:spPr>
          <a:xfrm rot="20601600">
            <a:off x="4506840" y="3224160"/>
            <a:ext cx="1220760" cy="149868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12"/>
          <p:cNvSpPr/>
          <p:nvPr/>
        </p:nvSpPr>
        <p:spPr>
          <a:xfrm rot="20601600">
            <a:off x="4400280" y="2971440"/>
            <a:ext cx="2562120" cy="809640"/>
          </a:xfrm>
          <a:custGeom>
            <a:avLst/>
            <a:gdLst>
              <a:gd name="textAreaLeft" fmla="*/ 0 w 2562120"/>
              <a:gd name="textAreaRight" fmla="*/ 2562480 w 256212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3"/>
          <p:cNvGrpSpPr/>
          <p:nvPr/>
        </p:nvGrpSpPr>
        <p:grpSpPr>
          <a:xfrm>
            <a:off x="3988800" y="2648160"/>
            <a:ext cx="3251880" cy="2231640"/>
            <a:chOff x="3988800" y="2648160"/>
            <a:chExt cx="3251880" cy="2231640"/>
          </a:xfrm>
        </p:grpSpPr>
        <p:sp>
          <p:nvSpPr>
            <p:cNvPr id="293" name="Arc 14"/>
            <p:cNvSpPr/>
            <p:nvPr/>
          </p:nvSpPr>
          <p:spPr>
            <a:xfrm rot="20712600">
              <a:off x="4102200" y="3003120"/>
              <a:ext cx="2949480" cy="1271880"/>
            </a:xfrm>
            <a:custGeom>
              <a:avLst/>
              <a:gdLst>
                <a:gd name="textAreaLeft" fmla="*/ 0 w 2949480"/>
                <a:gd name="textAreaRight" fmla="*/ 2949840 w 2949480"/>
                <a:gd name="textAreaTop" fmla="*/ 0 h 1271880"/>
                <a:gd name="textAreaBottom" fmla="*/ 1272240 h 127188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5"/>
            <p:cNvSpPr/>
            <p:nvPr/>
          </p:nvSpPr>
          <p:spPr>
            <a:xfrm rot="20712600">
              <a:off x="4186440" y="3192120"/>
              <a:ext cx="1377720" cy="153684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6"/>
            <p:cNvSpPr/>
            <p:nvPr/>
          </p:nvSpPr>
          <p:spPr>
            <a:xfrm rot="20712600">
              <a:off x="5562360" y="3360600"/>
              <a:ext cx="1579320" cy="979200"/>
            </a:xfrm>
            <a:custGeom>
              <a:avLst/>
              <a:gdLst>
                <a:gd name="textAreaLeft" fmla="*/ 0 w 1579320"/>
                <a:gd name="textAreaRight" fmla="*/ 1579680 w 157932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4482360" y="2474640"/>
            <a:ext cx="3270960" cy="2463840"/>
            <a:chOff x="4482360" y="2474640"/>
            <a:chExt cx="3270960" cy="2463840"/>
          </a:xfrm>
        </p:grpSpPr>
        <p:sp>
          <p:nvSpPr>
            <p:cNvPr id="297" name="Freeform 18"/>
            <p:cNvSpPr/>
            <p:nvPr/>
          </p:nvSpPr>
          <p:spPr>
            <a:xfrm rot="20601600">
              <a:off x="6073560" y="3263400"/>
              <a:ext cx="1555560" cy="1092240"/>
            </a:xfrm>
            <a:custGeom>
              <a:avLst/>
              <a:gdLst>
                <a:gd name="textAreaLeft" fmla="*/ 0 w 1555560"/>
                <a:gd name="textAreaRight" fmla="*/ 1555920 w 155556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rc 19"/>
            <p:cNvSpPr/>
            <p:nvPr/>
          </p:nvSpPr>
          <p:spPr>
            <a:xfrm rot="20539200">
              <a:off x="4625640" y="2882520"/>
              <a:ext cx="2905200" cy="1397160"/>
            </a:xfrm>
            <a:custGeom>
              <a:avLst/>
              <a:gdLst>
                <a:gd name="textAreaLeft" fmla="*/ 0 w 2905200"/>
                <a:gd name="textAreaRight" fmla="*/ 2905200 w 290520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0"/>
            <p:cNvSpPr/>
            <p:nvPr/>
          </p:nvSpPr>
          <p:spPr>
            <a:xfrm rot="20601600">
              <a:off x="4757760" y="3094200"/>
              <a:ext cx="1332000" cy="1688760"/>
            </a:xfrm>
            <a:custGeom>
              <a:avLst/>
              <a:gdLst>
                <a:gd name="textAreaLeft" fmla="*/ 0 w 1332000"/>
                <a:gd name="textAreaRight" fmla="*/ 1332360 w 1332000"/>
                <a:gd name="textAreaTop" fmla="*/ 0 h 1688760"/>
                <a:gd name="textAreaBottom" fmla="*/ 1689120 h 168876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Oval 21"/>
          <p:cNvSpPr/>
          <p:nvPr/>
        </p:nvSpPr>
        <p:spPr>
          <a:xfrm rot="20601600">
            <a:off x="2979360" y="2617560"/>
            <a:ext cx="2695680" cy="1339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2"/>
          <p:cNvSpPr/>
          <p:nvPr/>
        </p:nvSpPr>
        <p:spPr>
          <a:xfrm rot="20601600">
            <a:off x="3056040" y="2852280"/>
            <a:ext cx="2624040" cy="1098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5716800" y="24382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4117320" y="19810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5"/>
          <p:cNvSpPr/>
          <p:nvPr/>
        </p:nvSpPr>
        <p:spPr>
          <a:xfrm>
            <a:off x="1828800" y="4038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6"/>
          <p:cNvSpPr/>
          <p:nvPr/>
        </p:nvSpPr>
        <p:spPr>
          <a:xfrm>
            <a:off x="3812040" y="411480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bo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7"/>
          <p:cNvSpPr/>
          <p:nvPr/>
        </p:nvSpPr>
        <p:spPr>
          <a:xfrm>
            <a:off x="571500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8"/>
          <p:cNvSpPr/>
          <p:nvPr/>
        </p:nvSpPr>
        <p:spPr>
          <a:xfrm>
            <a:off x="3581280" y="30481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 Exper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B65C-9585-4031-8B37-E1F1FE117C19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b0d"/>
                </a:solidFill>
                <a:latin typeface="Comic Sans MS"/>
              </a:rPr>
              <a:t>References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court Science, 4th grade “The Chameleon cover", Harcourt School Publisher,  Unit A pp.4-11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ttp://www.cellsalive.com/cells/plntcell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court Science, 5th grade “The Frog cover", Harcourt School Publisher,  Unit A pp.2-12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1375"/>
              </a:spcBef>
              <a:buClr>
                <a:srgbClr val="dd2b0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ww.innerbody.com/htm/body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1375"/>
              </a:spcBef>
              <a:buClr>
                <a:srgbClr val="dd2b0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ttp://www.kidport.com/RefLib/Science/Animals/Animals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ttp://www.usoe.k12.ut.us/CURR/Science/sciber00/7th/classify/sciber/5king2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ttp://www.kidport.com/RefLib/Science/Animals/Animals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1375"/>
              </a:spcBef>
              <a:buClr>
                <a:srgbClr val="dd2b0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ttp://csdl.tamu.edu/FLORA/tfplab/vegchar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1375"/>
              </a:spcBef>
              <a:buClr>
                <a:srgbClr val="dd2b0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ttp://www.dmturner.org/Teacher/Library/4thText/ PlantsPart1-4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533520" y="91440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0" y="3733920"/>
            <a:ext cx="5029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524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5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946B-0A43-4948-8137-34AC21DB88EB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b0d"/>
                </a:solidFill>
                <a:latin typeface="Comic Sans MS"/>
              </a:rPr>
              <a:t>Classification goes beyond kingdom level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kingdoms can be broken in small groups according common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dd2b0d"/>
              </a:buClr>
              <a:buSzPct val="10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detail classification  should includes the following steps in the lad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Clr>
                <a:srgbClr val="dd2b0d"/>
              </a:buClr>
              <a:buSzPct val="10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2b0d"/>
                </a:solidFill>
                <a:latin typeface="Comic Sans MS"/>
              </a:rPr>
              <a:t>Phylum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ond highest classification it covers different groups with a common physical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Clr>
                <a:srgbClr val="dd2b0d"/>
              </a:buClr>
              <a:buSzPct val="10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2b0d"/>
                </a:solidFill>
                <a:latin typeface="Comic Sans MS"/>
              </a:rPr>
              <a:t>Class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ed families according a shared attribute. (mamm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Clr>
                <a:srgbClr val="dd2b0d"/>
              </a:buClr>
              <a:buSzPct val="10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2b0d"/>
                </a:solidFill>
                <a:latin typeface="Comic Sans MS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– How the a class group survive? (carnivorous, herbivor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spcAft>
                <a:spcPts val="499"/>
              </a:spcAft>
              <a:buClr>
                <a:srgbClr val="dd2b0d"/>
              </a:buClr>
              <a:buSzPct val="10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2b0d"/>
                </a:solidFill>
                <a:latin typeface="Comic Sans MS"/>
              </a:rPr>
              <a:t>Famil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Taxonomic group containing one or more genera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buClr>
                <a:srgbClr val="dd2b0d"/>
              </a:buClr>
              <a:buSzPct val="10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2b0d"/>
                </a:solidFill>
                <a:latin typeface="Comic Sans MS"/>
              </a:rPr>
              <a:t>Genu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The second smallest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dd2b0d"/>
              </a:buClr>
              <a:buSzPct val="10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2b0d"/>
                </a:solidFill>
                <a:latin typeface="Comic Sans MS"/>
              </a:rPr>
              <a:t>Speci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Smallest group whose members can interbreed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2b0d"/>
              </a:buClr>
              <a:buSzPct val="10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cience of classifying things is called </a:t>
            </a:r>
            <a:r>
              <a:rPr b="0" lang="en-US" sz="2000" spc="-1" strike="noStrike">
                <a:solidFill>
                  <a:srgbClr val="dd2b0d"/>
                </a:solidFill>
                <a:latin typeface="Comic Sans MS"/>
              </a:rPr>
              <a:t>Taxono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5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EDF1-A789-4B9A-8EE8-C7B03B807326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b0d"/>
                </a:solidFill>
                <a:latin typeface="Comic Sans MS"/>
              </a:rPr>
              <a:t>Classification beyond kingdom level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762120" y="914400"/>
          <a:ext cx="65530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65530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6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7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0220-F238-49B6-8BC9-78BAED37DEC9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40000"/>
                </a:solidFill>
                <a:latin typeface="Comic Sans MS"/>
              </a:rPr>
              <a:t>Animal Kingdom-is composed of living things made of many cells. They must eat other animals or plants to survive.</a:t>
            </a:r>
            <a:endParaRPr b="1" lang="en-US" sz="3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2b0d"/>
                </a:solidFill>
                <a:latin typeface="Arial"/>
              </a:rPr>
              <a:t>Vertebrate anim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backb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Amphibi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oist skin, no sc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24"/>
              </a:spcBef>
              <a:buClr>
                <a:srgbClr val="dd2b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gs, toads and new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Bir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ings,feather,be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ish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ns, scales, g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Mam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hair, mil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24"/>
              </a:spcBef>
              <a:buClr>
                <a:srgbClr val="dd2b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g, cats, b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Repti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ry, scale sk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24"/>
              </a:spcBef>
              <a:buClr>
                <a:srgbClr val="dd2b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akes, turtles, allig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1"/>
          <p:cNvSpPr/>
          <p:nvPr/>
        </p:nvSpPr>
        <p:spPr>
          <a:xfrm>
            <a:off x="129960" y="1523880"/>
            <a:ext cx="15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hy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7" descr="bir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3581280"/>
            <a:ext cx="1218960" cy="873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2" descr="GrayTreeFrogOnBranch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10080" y="2743200"/>
            <a:ext cx="1295640" cy="9907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75"/>
          <p:cNvGrpSpPr/>
          <p:nvPr/>
        </p:nvGrpSpPr>
        <p:grpSpPr>
          <a:xfrm>
            <a:off x="4800600" y="4038480"/>
            <a:ext cx="2666880" cy="2229120"/>
            <a:chOff x="4800600" y="4038480"/>
            <a:chExt cx="2666880" cy="2229120"/>
          </a:xfrm>
        </p:grpSpPr>
        <p:pic>
          <p:nvPicPr>
            <p:cNvPr id="117" name="Picture 62" descr="polar-bear-slumped-60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6172200" y="4648320"/>
              <a:ext cx="129528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64" descr="alligator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4800600" y="5486400"/>
              <a:ext cx="134316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74" descr="Moonfish2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4876920" y="4038480"/>
              <a:ext cx="1285920" cy="885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6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7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F95F-9B77-48E2-883C-410F83644329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40000"/>
                </a:solidFill>
                <a:latin typeface="Comic Sans MS"/>
              </a:rPr>
              <a:t>Animal Kingdom Continues</a:t>
            </a:r>
            <a:endParaRPr b="1" lang="en-US" sz="3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2b0d"/>
                </a:solidFill>
                <a:latin typeface="Arial"/>
              </a:rPr>
              <a:t>Invertebrate anim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 not have backb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2b0d"/>
                </a:solidFill>
                <a:latin typeface="Arial"/>
              </a:rPr>
              <a:t>Arthrop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joints, sh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2b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staceans (crab, lob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2b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s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eetles, a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2b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chnids (spid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2b0d"/>
                </a:solidFill>
                <a:latin typeface="Arial"/>
              </a:rPr>
              <a:t>Mollus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ea creat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2b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po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2b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n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2b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58560" y="1143000"/>
            <a:ext cx="15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hy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22"/>
          <p:cNvGrpSpPr/>
          <p:nvPr/>
        </p:nvGrpSpPr>
        <p:grpSpPr>
          <a:xfrm>
            <a:off x="4343400" y="4952880"/>
            <a:ext cx="2971800" cy="1357560"/>
            <a:chOff x="4343400" y="4952880"/>
            <a:chExt cx="2971800" cy="1357560"/>
          </a:xfrm>
        </p:grpSpPr>
        <p:pic>
          <p:nvPicPr>
            <p:cNvPr id="126" name="Picture 17" descr="Copy%2520of%2520sponge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4343400" y="4952880"/>
              <a:ext cx="90504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9" descr="snail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57800" y="5334120"/>
              <a:ext cx="1067040" cy="7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1" descr="bleaches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6324840" y="5486400"/>
              <a:ext cx="990360" cy="82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Group 29"/>
          <p:cNvGrpSpPr/>
          <p:nvPr/>
        </p:nvGrpSpPr>
        <p:grpSpPr>
          <a:xfrm>
            <a:off x="5790960" y="2971800"/>
            <a:ext cx="2114640" cy="1676520"/>
            <a:chOff x="5790960" y="2971800"/>
            <a:chExt cx="2114640" cy="1676520"/>
          </a:xfrm>
        </p:grpSpPr>
        <p:pic>
          <p:nvPicPr>
            <p:cNvPr id="130" name="Picture 11" descr="spider-front-full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5791320" y="3809880"/>
              <a:ext cx="106668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14" descr="beetle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6858000" y="3429000"/>
              <a:ext cx="104760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7" descr="crab-figure2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 rot="10800000">
              <a:off x="5790960" y="2971800"/>
              <a:ext cx="1066680" cy="82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7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8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0DD2-0AD6-4743-9421-9A614D74CEFB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b0d"/>
                </a:solidFill>
                <a:latin typeface="Arial"/>
              </a:rPr>
              <a:t>Classifying the group of the animals according to the physical characteristics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136" name="Picture 18" descr="dragonfl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1219320"/>
            <a:ext cx="1050840" cy="909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frogs are amphibian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286000"/>
            <a:ext cx="105120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6" descr="reptile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828800" y="2286000"/>
            <a:ext cx="1050840" cy="909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6" descr="dolphin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0880" y="5410080"/>
            <a:ext cx="1051200" cy="914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8" descr="fish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80880" y="1219320"/>
            <a:ext cx="1051200" cy="914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6" descr="Protozoa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80880" y="3352680"/>
            <a:ext cx="1051200" cy="914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7" descr="crabs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828800" y="3352680"/>
            <a:ext cx="1066680" cy="938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8" descr="SeaStar"/>
          <p:cNvPicPr/>
          <p:nvPr/>
        </p:nvPicPr>
        <p:blipFill>
          <a:blip r:embed="rId15"/>
          <a:stretch/>
        </p:blipFill>
        <p:spPr>
          <a:xfrm>
            <a:off x="1828800" y="4419720"/>
            <a:ext cx="1050840" cy="909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9" descr="earthworms"/>
          <p:cNvPicPr/>
          <p:nvPr/>
        </p:nvPicPr>
        <p:blipFill>
          <a:blip r:embed="rId16"/>
          <a:stretch/>
        </p:blipFill>
        <p:spPr>
          <a:xfrm>
            <a:off x="380880" y="4419720"/>
            <a:ext cx="1051200" cy="914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0" descr="monkey%2520smil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828800" y="5410080"/>
            <a:ext cx="1050840" cy="9144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02"/>
          <p:cNvSpPr/>
          <p:nvPr/>
        </p:nvSpPr>
        <p:spPr>
          <a:xfrm>
            <a:off x="4038480" y="1295280"/>
            <a:ext cx="2590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d2b0d"/>
                </a:solidFill>
                <a:latin typeface="Microsoft Sans Serif"/>
              </a:rPr>
              <a:t>	</a:t>
            </a:r>
            <a:r>
              <a:rPr b="0" lang="en-US" sz="2600" spc="-1" strike="noStrike">
                <a:solidFill>
                  <a:srgbClr val="dd2b0d"/>
                </a:solidFill>
                <a:latin typeface="Microsoft Sans Serif"/>
              </a:rPr>
              <a:t>Verteb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Amphibi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Bi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Fi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Mamm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Marsup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Prim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Cetace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Rep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ff0066"/>
              </a:buClr>
              <a:buFont typeface="Microsoft San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5"/>
          <p:cNvSpPr/>
          <p:nvPr/>
        </p:nvSpPr>
        <p:spPr>
          <a:xfrm>
            <a:off x="6400800" y="1295280"/>
            <a:ext cx="27432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d2b0d"/>
                </a:solidFill>
                <a:latin typeface="Microsoft Sans Serif"/>
              </a:rPr>
              <a:t>Inverteb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Annel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Arachnid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Crustace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Echinode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Insec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Mollu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dd2b0d"/>
              </a:buClr>
              <a:buFont typeface="Microsoft Sans Serif"/>
              <a:buAutoNum type="alphaL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crosoft Sans Serif"/>
              </a:rPr>
              <a:t>Protoz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ff0066"/>
              </a:buClr>
              <a:buFont typeface="Microsoft San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11" descr="Octopus%2520in%2520aquarium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352680" y="3352680"/>
            <a:ext cx="1051200" cy="914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2" descr="27-85m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352680" y="5410080"/>
            <a:ext cx="1051200" cy="914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3" descr="spider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3352680" y="1219320"/>
            <a:ext cx="1067040" cy="914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4" descr="Mammals include feline cats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3352680" y="2286000"/>
            <a:ext cx="1067040" cy="914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5" descr="bird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3352680" y="4419720"/>
            <a:ext cx="1051200" cy="914400"/>
          </a:xfrm>
          <a:prstGeom prst="rect">
            <a:avLst/>
          </a:prstGeom>
          <a:ln w="0">
            <a:noFill/>
          </a:ln>
        </p:spPr>
      </p:pic>
      <p:sp>
        <p:nvSpPr>
          <p:cNvPr id="153" name="Line 117"/>
          <p:cNvSpPr/>
          <p:nvPr/>
        </p:nvSpPr>
        <p:spPr>
          <a:xfrm>
            <a:off x="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8"/>
          <p:cNvSpPr/>
          <p:nvPr/>
        </p:nvSpPr>
        <p:spPr>
          <a:xfrm>
            <a:off x="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9"/>
          <p:cNvSpPr/>
          <p:nvPr/>
        </p:nvSpPr>
        <p:spPr>
          <a:xfrm>
            <a:off x="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0"/>
          <p:cNvSpPr/>
          <p:nvPr/>
        </p:nvSpPr>
        <p:spPr>
          <a:xfrm>
            <a:off x="14479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21"/>
          <p:cNvSpPr/>
          <p:nvPr/>
        </p:nvSpPr>
        <p:spPr>
          <a:xfrm>
            <a:off x="28954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23"/>
          <p:cNvSpPr/>
          <p:nvPr/>
        </p:nvSpPr>
        <p:spPr>
          <a:xfrm>
            <a:off x="0" y="6248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24"/>
          <p:cNvSpPr/>
          <p:nvPr/>
        </p:nvSpPr>
        <p:spPr>
          <a:xfrm>
            <a:off x="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25"/>
          <p:cNvSpPr/>
          <p:nvPr/>
        </p:nvSpPr>
        <p:spPr>
          <a:xfrm>
            <a:off x="144792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6"/>
          <p:cNvSpPr/>
          <p:nvPr/>
        </p:nvSpPr>
        <p:spPr>
          <a:xfrm>
            <a:off x="144792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7"/>
          <p:cNvSpPr/>
          <p:nvPr/>
        </p:nvSpPr>
        <p:spPr>
          <a:xfrm>
            <a:off x="28954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8"/>
          <p:cNvSpPr/>
          <p:nvPr/>
        </p:nvSpPr>
        <p:spPr>
          <a:xfrm>
            <a:off x="297180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9"/>
          <p:cNvSpPr/>
          <p:nvPr/>
        </p:nvSpPr>
        <p:spPr>
          <a:xfrm>
            <a:off x="297180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30"/>
          <p:cNvSpPr/>
          <p:nvPr/>
        </p:nvSpPr>
        <p:spPr>
          <a:xfrm>
            <a:off x="144792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1"/>
          <p:cNvSpPr/>
          <p:nvPr/>
        </p:nvSpPr>
        <p:spPr>
          <a:xfrm>
            <a:off x="1447920" y="6248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2"/>
          <p:cNvSpPr/>
          <p:nvPr/>
        </p:nvSpPr>
        <p:spPr>
          <a:xfrm>
            <a:off x="2971800" y="6248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6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7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107F-5ADD-4B36-8FD7-7949F43D562F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0000"/>
                </a:solidFill>
                <a:latin typeface="Comic Sans MS"/>
              </a:rPr>
              <a:t>Plant Kingdom-</a:t>
            </a:r>
            <a:r>
              <a:rPr b="1" lang="en-US" sz="3000" spc="-1" strike="noStrike">
                <a:solidFill>
                  <a:srgbClr val="f40000"/>
                </a:solidFill>
                <a:latin typeface="Comic Sans MS"/>
              </a:rPr>
              <a:t>is</a:t>
            </a:r>
            <a:r>
              <a:rPr b="1" lang="en-US" sz="3200" spc="-1" strike="noStrike">
                <a:solidFill>
                  <a:srgbClr val="f4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40000"/>
                </a:solidFill>
                <a:latin typeface="Comic Sans MS"/>
              </a:rPr>
              <a:t>composed of all plants made of many cells with nuclei. Plants produce their own food.</a:t>
            </a:r>
            <a:endParaRPr b="1" lang="en-US" sz="3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Vascular pl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have tubes on roots, stem, and le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2b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es, bushes, and ornamental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Seed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2b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iosperms make their seeds in flow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2b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ymnosperms  produced seed in cones (conifers, p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2" descr="peach_tre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3200400"/>
            <a:ext cx="1285920" cy="961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" descr="Rose%2520Rain%2520-%2520800x6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200400"/>
            <a:ext cx="1289160" cy="961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3160-0006PinstrobTR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67080" y="5486400"/>
            <a:ext cx="1295640" cy="819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0" descr="JSC%25200005%2520Gas%2520Plant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267080" y="4419720"/>
            <a:ext cx="12956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6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7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C13A-B07B-4489-9ABF-2C7AD1976A40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0000"/>
                </a:solidFill>
                <a:latin typeface="Comic Sans MS"/>
              </a:rPr>
              <a:t>Plant Kingdom Cont’s…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49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Nonvascular pl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on’t have tub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49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125"/>
              </a:spcBef>
              <a:buClr>
                <a:srgbClr val="dd2b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125"/>
              </a:spcBef>
              <a:buClr>
                <a:srgbClr val="dd2b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rw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49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Non-Seed pl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able to produce new plants without seed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dd2b0d"/>
                </a:solidFill>
                <a:latin typeface="Arial"/>
              </a:rPr>
              <a:t>Sp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ngle  reproductive 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125"/>
              </a:spcBef>
              <a:buClr>
                <a:srgbClr val="dd2b0d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876"/>
              </a:spcBef>
              <a:buClr>
                <a:srgbClr val="dd2b0d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876"/>
              </a:spcBef>
              <a:buClr>
                <a:srgbClr val="dd2b0d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istockphoto_272423_rock_lichen_colourful_plan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2590920"/>
            <a:ext cx="1325520" cy="9144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5181480" y="3505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7315200" y="3505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1" descr="Frullania_pycnantha%2C_Liverwor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2590920"/>
            <a:ext cx="1325520" cy="931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DBF%2520980511%2520Moss%2520sporophyte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95680" y="4800600"/>
            <a:ext cx="1133640" cy="1066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0" descr="dryop_dw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971800" y="4800600"/>
            <a:ext cx="1143000" cy="10666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1"/>
          <p:cNvSpPr/>
          <p:nvPr/>
        </p:nvSpPr>
        <p:spPr>
          <a:xfrm>
            <a:off x="3276720" y="5943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4724280" y="5943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4" descr="green_algea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943600" y="4800600"/>
            <a:ext cx="1219320" cy="10666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25"/>
          <p:cNvSpPr/>
          <p:nvPr/>
        </p:nvSpPr>
        <p:spPr>
          <a:xfrm>
            <a:off x="6248520" y="5943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5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Processes of Life               USF/NSF/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6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F78C-7FA1-49C0-A0E1-F15A61162D89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b0d"/>
                </a:solidFill>
                <a:latin typeface="Comic Sans MS"/>
              </a:rPr>
              <a:t>Plants Anatomy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2b0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b0d"/>
                </a:solidFill>
                <a:latin typeface="Comic Sans MS"/>
              </a:rPr>
              <a:t>Botan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study of plants. A scientist who studies plants is a </a:t>
            </a:r>
            <a:r>
              <a:rPr b="0" lang="en-US" sz="2400" spc="-1" strike="noStrike">
                <a:solidFill>
                  <a:srgbClr val="dd2b0d"/>
                </a:solidFill>
                <a:latin typeface="Comic Sans MS"/>
              </a:rPr>
              <a:t>botani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400" spc="-1" strike="noStrike">
                <a:solidFill>
                  <a:srgbClr val="dd2b0d"/>
                </a:solidFill>
                <a:latin typeface="Comic Sans MS"/>
              </a:rPr>
              <a:t>anatom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science that study how living things are including their par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28600" y="2209680"/>
            <a:ext cx="4495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ain types of ro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dd2b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taproot system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single large root  that grows straight d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499"/>
              </a:spcBef>
              <a:buClr>
                <a:srgbClr val="dd2b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fibrous root system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maller branching roo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taproo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fibrusroo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2438280"/>
            <a:ext cx="1109880" cy="1143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1"/>
          <p:cNvSpPr/>
          <p:nvPr/>
        </p:nvSpPr>
        <p:spPr>
          <a:xfrm>
            <a:off x="5334120" y="3657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6934320" y="3657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228600" y="4038480"/>
            <a:ext cx="48006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dd2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ain types of st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dd2b0d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green s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thin flexible tubes  in a bundle  that holds the pl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dd2b0d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2b0d"/>
                </a:solidFill>
                <a:latin typeface="Arial"/>
              </a:rPr>
              <a:t>woody s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grows taller and thicker every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hervilStem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05520" y="4343400"/>
            <a:ext cx="1066680" cy="129528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8"/>
          <p:cNvSpPr/>
          <p:nvPr/>
        </p:nvSpPr>
        <p:spPr>
          <a:xfrm>
            <a:off x="5334120" y="579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2" descr="sagwoodx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4343400"/>
            <a:ext cx="1067040" cy="12952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23"/>
          <p:cNvSpPr/>
          <p:nvPr/>
        </p:nvSpPr>
        <p:spPr>
          <a:xfrm>
            <a:off x="6781680" y="5791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15:48:54Z</dcterms:created>
  <dc:creator>Jorge</dc:creator>
  <dc:description/>
  <dc:language>en-US</dc:language>
  <cp:lastModifiedBy>Lyn Clarkson</cp:lastModifiedBy>
  <dcterms:modified xsi:type="dcterms:W3CDTF">2009-09-09T08:39:48Z</dcterms:modified>
  <cp:revision>127</cp:revision>
  <dc:subject/>
  <dc:title>Living things are different but share similar structures (SC.F.1.2.3)</dc:title>
</cp:coreProperties>
</file>